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09F-BDD1-4967-BC2F-2C683D8A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671-3135-43F1-8975-10A1EBAF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BB4-17A8-4874-B463-9451AF29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A08-FEEB-4529-B88B-0657D459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9FA7-BD7E-490F-93B6-D7CA209A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C627-5C45-4451-9358-0A7A14F8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E0B6-A988-4595-9607-242A3639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564C-EA69-4B2D-9DCB-26E50A24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8C39-C572-42CE-AA58-AF7E6234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272A-1A87-458A-AE90-80B14B72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F0A9-8F63-4742-B502-DB59BA2F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EA7-6B97-45E8-95FB-B479EA0A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1238-2B64-4621-8792-6DD7C317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23B8-DAE0-4230-AA82-AF47104E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0410-96FC-4212-A35E-D4DFB028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3E30-5FB6-4221-BDD8-ACCB9C57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EFA4-B20A-4922-AE1C-F1E35802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0B9F1-9694-41DF-A903-33A95488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37D80-86D9-4FB0-B3EE-BA67134F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A5067-F3D2-4978-9738-C0E23DD1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A4EB6-432B-45D1-AE44-301AD7C1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9272C-D7BD-4CBB-B443-23A3BD36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EF9-57FE-43B1-A4EF-9EE5B648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28B86-F148-4BE0-B060-6F2ECDD1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7B331-F10D-4390-89BD-BB9754C6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C6DE8-43FF-4781-BC50-BD0E2B3D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E9196-D0F2-4617-8FFE-76A59567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C4262-D464-4B0D-82EA-F864F0FC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48ADF-D860-4269-87B7-B17FA19C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8E3FC-63AF-4408-AB7A-0C9D632E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F1DA6F-507C-4134-8F60-5285E028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CE2D61-4F44-4C7D-ACCF-BECF9DC2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4BED2A-8114-49F1-AC3E-42367C66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087-D78D-4A2D-A27E-4F75DD80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693C8-C06F-401C-B467-E92EA49F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BF1FC9-0972-466D-85D8-A094F92C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7DCE4-8C48-416A-A7AC-1DA1E5E7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D9A24F-F0A0-4881-9FB4-E4688B44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6D2ECD-E3DB-4BDB-80CD-153B7979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AA6C82-24A5-46E5-A8F8-5AA8ECCA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239A91-E556-446C-B83C-F1305AE9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F68B92-A742-4C48-A380-6244A403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FABBAF-8488-47F8-9650-56090BF8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7DF343-CDBA-4CB3-ACCC-814759F8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A85-6647-4128-9794-E4D35562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2EE4DE-066C-4E3A-A49D-9E8C3316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A3B50C-E1B0-4C19-8DF1-DDD69580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77A8C-E300-41ED-A5A7-1DEE6133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BB79D0-6439-43A7-91A9-670E392D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4EB69A-B206-4A94-A208-DCB75DD6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DDD0C8-1681-4203-9703-BA06A553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511D50-3093-449F-A713-F00FD3B6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5B7238-6B57-49DC-8874-D2369AC7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5ADE4B-B7E7-4A87-826F-D34D9C7B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36181-9301-4BDF-A306-83B79F5D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3FB9-383F-4F8B-A31B-F5E193CA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70750B-41D5-48A9-8BB4-058B32C8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43744-BEBC-4B3E-A549-544F67EB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88903-AC63-4AE5-8301-B133C8FE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67047-ED70-4C34-848A-40A09A5C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8ADA1-52BF-4D19-A824-196C13C4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9FE69-278C-4A40-BED3-D225B7A1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D3055-CB72-4722-B2E6-9723AC2A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4EDFF-063C-48A9-910C-95BD4EC0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8A749-05CE-4149-A26B-D2EC6C87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7A7B6-4CC1-4EA2-A020-7B4C5F58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33C-DF75-487E-80F2-2BA761A5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73FAD-BE2A-4969-8127-ACC56599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DFAA6-00B3-44A8-A964-3D261773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D7B66-7E93-4C76-9862-E2430C7C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54429C-D6FF-4A49-9403-0C5FB61E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444F30-56A2-48A7-A398-63C80478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6EE673-9CDA-46E6-94E4-93F7F2B8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7C8206-9C66-4665-AD0B-342C2F91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369DAD-E6CF-44B4-82FA-9B2D115F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E3272E-96D1-410B-A090-7A1E931B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D0FF6-94FD-4380-832C-A56BE12B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945A-BED3-4830-B71A-7454E0E9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C5AA07-6F26-44BF-AB12-A0073A9B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7E0056-C64B-42E6-A6A5-057DB74F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16456-FE84-4755-8FA8-F97125E4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C9A307-2396-4969-A75F-98884D4E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576682-39DA-4E87-9BF3-755A50B3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BFFF8-20D6-434B-95D2-36A9DB67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7A840-760B-4369-B114-88691EE8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B7EFE-8365-418D-B406-2232480D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CF315-A0F4-4712-8E1F-8BD30B25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75D00-A4C0-4BAF-86F8-8A4EE8D1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BB0C-8565-4625-B4DF-81A7A90E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0E944-0CAC-4601-98ED-EC812D2F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DBEB6-4C04-4442-96EC-7AE37A07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2A59D-F33A-48AB-8CA2-BE10F71B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01AC6-C80B-40C3-A474-2B8BC2A9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A9EFD-4987-486E-9E39-7CD1124F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2C2F7-3D1E-48DB-89F2-33A312F0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C9552-5761-4CCE-9F63-A8E1B1DC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6FE00-33C8-440C-AA98-B1E6D88BA3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2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edf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5edf4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d5edf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24AD7-2AA4-4073-BB59-E3C5BC267638}" type="slidenum">
              <a:rPr b="1" lang="en-US" sz="1400" spc="-1" strike="noStrike">
                <a:solidFill>
                  <a:srgbClr val="d5edf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05ACF-C293-4ED6-B276-72F346141B58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C601E-4DD8-4D3E-88A3-C9B4B3A3B2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95E54-6C72-46BF-B76B-6BA6F9BE824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09213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BAF00-8ACE-419C-B405-C9C19F2C1D84}" type="slidenum">
              <a:rPr b="1" lang="en-US" sz="1400" spc="-1" strike="noStrike">
                <a:solidFill>
                  <a:srgbClr val="09213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A8D3F-C4E9-43B6-973F-4D401428917C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D24E8-58D9-470D-8B24-4147D50321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edf4"/>
                </a:solidFill>
                <a:latin typeface="Tw Cen MT"/>
              </a:rPr>
              <a:t>Principles of Good Graphic Design</a:t>
            </a:r>
            <a:endParaRPr b="0" lang="en-US" sz="4400" spc="-1" strike="noStrike">
              <a:solidFill>
                <a:srgbClr val="d5edf4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igital Literacy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Balance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360" y="1600200"/>
            <a:ext cx="4629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 the graphic elements (text, pictures, shapes) are visually even and come together seamlessly to the viewer’s ey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nbalance creates discomfort for viewers (unless that is the intention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4" name="Picture 5" descr="teeter-totter"/>
          <p:cNvPicPr/>
          <p:nvPr/>
        </p:nvPicPr>
        <p:blipFill>
          <a:blip r:embed="rId1"/>
          <a:stretch/>
        </p:blipFill>
        <p:spPr>
          <a:xfrm>
            <a:off x="5241960" y="1600200"/>
            <a:ext cx="3116160" cy="25416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http://www.logomyway.com/marketPlace/tatax_2150/Sustainable_Garden_Supply.png"/>
          <p:cNvPicPr/>
          <p:nvPr/>
        </p:nvPicPr>
        <p:blipFill>
          <a:blip r:embed="rId2"/>
          <a:stretch/>
        </p:blipFill>
        <p:spPr>
          <a:xfrm>
            <a:off x="5526000" y="4359240"/>
            <a:ext cx="283212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ymmetrical Balance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wo sides of the design are more or less mirror images of each oth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iewers eyes are generally drawn to the element placed at the centre of the design and than flows to either sid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vides stability, permanence and calm (not very exciting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8" name="Picture 5" descr="CANADA1199"/>
          <p:cNvPicPr/>
          <p:nvPr/>
        </p:nvPicPr>
        <p:blipFill>
          <a:blip r:embed="rId1"/>
          <a:stretch/>
        </p:blipFill>
        <p:spPr>
          <a:xfrm>
            <a:off x="4986360" y="4610160"/>
            <a:ext cx="351792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Asymmetrical Balance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scribes a design in which the two sides are balanced, but not through the use of mirror imag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ar more common and more interes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fficult to achieve bala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times a large element will be balanced by two or more smaller elem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5" descr="subaru1"/>
          <p:cNvPicPr/>
          <p:nvPr/>
        </p:nvPicPr>
        <p:blipFill>
          <a:blip r:embed="rId1"/>
          <a:stretch/>
        </p:blipFill>
        <p:spPr>
          <a:xfrm>
            <a:off x="5673600" y="4775040"/>
            <a:ext cx="2740320" cy="1824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http://images.sixrevisions.com/2010/08/18-19_newpepsi.png"/>
          <p:cNvPicPr/>
          <p:nvPr/>
        </p:nvPicPr>
        <p:blipFill>
          <a:blip r:embed="rId2"/>
          <a:stretch/>
        </p:blipFill>
        <p:spPr>
          <a:xfrm>
            <a:off x="3322800" y="4775040"/>
            <a:ext cx="19335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Radial Balance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ymmetrical pattern resulting from placing similar elements around a central point (e.g. a daisy is said to have radial balance because all petals radiate from the centre of the flower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5" descr="3698782474_ef257695b7"/>
          <p:cNvPicPr/>
          <p:nvPr/>
        </p:nvPicPr>
        <p:blipFill>
          <a:blip r:embed="rId1"/>
          <a:stretch/>
        </p:blipFill>
        <p:spPr>
          <a:xfrm>
            <a:off x="4951440" y="3794040"/>
            <a:ext cx="3317760" cy="25812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mercedes-logo"/>
          <p:cNvPicPr/>
          <p:nvPr/>
        </p:nvPicPr>
        <p:blipFill>
          <a:blip r:embed="rId2"/>
          <a:stretch/>
        </p:blipFill>
        <p:spPr>
          <a:xfrm>
            <a:off x="2328840" y="3673440"/>
            <a:ext cx="2452680" cy="24526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http://upload.wikimedia.org/wikipedia/commons/thumb/9/9a/Target_logo.svg/432px-Target_logo.svg.png"/>
          <p:cNvPicPr/>
          <p:nvPr/>
        </p:nvPicPr>
        <p:blipFill>
          <a:blip r:embed="rId3"/>
          <a:stretch/>
        </p:blipFill>
        <p:spPr>
          <a:xfrm>
            <a:off x="258840" y="3794040"/>
            <a:ext cx="195408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ontras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489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Visual interest created by strategically placing objects, fonts, shapes, or textures that are opposites of one anoth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ize Variances – place large and small objects near each other to show relative importanc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ype Choices – choose different fonts for headings and tex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olour Selection – place a light element on a dark background, or vice versa, to bring attention to that ele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5" descr="2326567057_ded1e66ce6"/>
          <p:cNvPicPr/>
          <p:nvPr/>
        </p:nvPicPr>
        <p:blipFill>
          <a:blip r:embed="rId1"/>
          <a:stretch/>
        </p:blipFill>
        <p:spPr>
          <a:xfrm>
            <a:off x="5695920" y="160020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onsistency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armony, agreement, accorda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alance and uniform appeara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cognizable graphic elements includ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ypefa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ext align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lou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raphic images such as log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consistent elements of design for all items in promo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reating Consistency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74" name="Picture 5" descr="telus"/>
          <p:cNvPicPr/>
          <p:nvPr/>
        </p:nvPicPr>
        <p:blipFill>
          <a:blip r:embed="rId1"/>
          <a:stretch/>
        </p:blipFill>
        <p:spPr>
          <a:xfrm>
            <a:off x="3967200" y="4327560"/>
            <a:ext cx="4508640" cy="22129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rgins and page layout – use the same margins and alignment throughout a docu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nts – limit to two fonts – become recognizab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avigation (for websites) – keep tools in similar locations (back buttons, list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our – limit your palette to two or three colou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01:39:31Z</dcterms:created>
  <dc:creator>Office 2004 Test Drive User</dc:creator>
  <dc:description/>
  <dc:language>en-US</dc:language>
  <cp:lastModifiedBy>Katie</cp:lastModifiedBy>
  <dcterms:modified xsi:type="dcterms:W3CDTF">2015-12-16T02:13:12Z</dcterms:modified>
  <cp:revision>20</cp:revision>
  <dc:subject/>
  <dc:title>Unit 1</dc:title>
</cp:coreProperties>
</file>